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1F1-417C-4F49-8C42-04A592D9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A97-BEC5-486F-93E7-250FD2F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491-5A75-41CB-9A67-66CF1D04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7AD-009F-4655-8727-3340951F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3EFB-585B-4770-B955-A1E6D18B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E4CC-A0E4-42A4-B098-46CBAD11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EBA4-5727-412D-86DB-95C5DDC9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471-8D8B-4AEB-B4C2-5959A0E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4EED-D896-4802-A415-57567EDA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90CA-3855-40AF-BB8E-C030A5B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46C-5BC6-416A-8F0A-5821C5E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9F4-315A-4D41-93B4-A4F0B86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EBE1-19E1-4D9C-ACFE-76AB729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7737-D167-4C05-B911-2C27B140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028-371C-45C2-910B-0980BF26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F40A-0CF9-4BCF-9A14-478BAFA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B01-C41C-446F-B43C-98555B96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0800-3EC9-4038-A068-92702855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7C75-B66C-4754-88A9-A1D73140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3FA6-05D4-4255-A5EB-2F2A5BC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1E21-C966-4F97-8158-F257D53C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94D8-3B73-4E69-A7AA-10C3F9D0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306-BE79-4C04-A402-B9006D1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5D63-00A1-459D-B8AA-8A2429E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CD55-3957-4DCB-BD5E-D7613FC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6FE2-406D-433B-8564-9947C7CD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02C4-45D9-4381-843D-EC7AA9F2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3A34-0B3B-46AC-80AA-45AE8475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ABA5-1A17-4FE6-B859-9366F619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D411-0566-4401-8C69-2985B0AA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EBB9-4EA8-4C18-A704-8362691B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EC36-AF86-4355-B8D1-7E52ED67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0E1C-DD36-4820-95C1-68468DA4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2CA-5326-4CE9-9616-3A9363A3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C2B3-E653-44A5-ACBC-08B590BF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9507-AAE6-4DF0-8B8E-F5B28882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5209-1713-4299-8E82-61AEBF6D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DBDA-98A3-48C2-8AFC-115BA60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B9AA-2A4A-4DF8-ADC8-2750DC8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F76F-6DEE-4AA3-AE56-ACAA9EE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8A99-2300-4B2B-910F-F2B79FA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5E1B-F88B-4DF8-A870-2CECAE1F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905B-A0EB-4EE3-8E75-496AE080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88C-A74B-4A3D-B54A-FB9135C6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579-0624-4A57-AD13-3A6E9885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54F-EB08-4F12-861E-B73882C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826-CEC5-4133-840B-E502AFB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A91-AC8D-4564-A8D9-6757029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8A5B-BF4E-431E-9332-F6822EA02D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A0BE-B62B-4113-9A65-90A5122417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29BE-D1F0-4F7C-B8DC-07A966CE335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C488-B83F-4C89-9A2B-AF16A66A3E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Мутагени агенс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Constantia"/>
              </a:rPr>
              <a:t>•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Базни аналози</a:t>
            </a: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супституција оригиналних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5-бромурацил –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Т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2-аминопурин -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А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Азотне базе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хемикалије које мењају структуру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врше дезаминацију ба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елиминација амино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из базе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азотаста кис., етил-метансулфонат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U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ксантин (ксантин с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некада спаруј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, а у неким слу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чајевима се н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спаруј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па се репликација зауставља)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хипоксантин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везује се з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549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CS" sz="28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лкилирајући 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Constantia"/>
              </a:rPr>
              <a:t>–</a:t>
            </a:r>
            <a:r>
              <a:rPr b="0" i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ју алкил групу изм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а у молекулу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нитр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озогуаноз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метил 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л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Latn-CS" sz="2800" spc="-1" strike="noStrike">
                <a:solidFill>
                  <a:srgbClr val="ecec0c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Интеркалирајући</a:t>
            </a:r>
            <a:r>
              <a:rPr b="0" i="1" lang="sr-Latn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ђују се изм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а; доводе до мутација типа помака (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frameshift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диум бромид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акридин оран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профлав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Constantia"/>
              </a:rPr>
              <a:t>Агенси који  НЕ делују директно на ДНК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репаративне механизме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молекул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протеи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нтимутаген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упстанце које умањују мутагено дејство  хемијских агена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рсте хемијских агенаса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562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природн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афе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фил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бро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биљни алкалои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индустријск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ински хемијски мутаг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сек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инилхлори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дитиви, конзерванси, боје у прехрамбеној индустрији, емулгатори (Е123, 221-226, 250-251, 320-322, 338-341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ви (цитостатици, седативи, антибиотици, дрог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 ефекат </a:t>
            </a:r>
            <a:r>
              <a:rPr b="0" lang="sr-Latn-CS" sz="2200" spc="-1" strike="noStrike">
                <a:solidFill>
                  <a:srgbClr val="ff0066"/>
                </a:solidFill>
                <a:latin typeface="Arial"/>
                <a:ea typeface="Arial"/>
              </a:rPr>
              <a:t>Талидом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утагено и тератогено дејств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фекат талидоми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thalidomidecollage1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547280" y="1052280"/>
            <a:ext cx="568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ИЗИЧКИ АГЕНС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Не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0066"/>
                </a:solidFill>
                <a:latin typeface="Arial"/>
              </a:rPr>
              <a:t>Нејонизујуће зрачење - </a:t>
            </a:r>
            <a:r>
              <a:rPr b="1" lang="sr-Latn-CS" sz="4600" spc="-1" strike="noStrike">
                <a:solidFill>
                  <a:srgbClr val="ff0066"/>
                </a:solidFill>
                <a:latin typeface="Arial"/>
              </a:rPr>
              <a:t>UV</a:t>
            </a:r>
            <a:r>
              <a:rPr b="1" lang="sr-Latn-CS" sz="46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ла продорност кроз тки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етљивији су организми на 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м ступњу еволутивне леств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фазе 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употребљене до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већањем дозе расте фреквенца оштећења (постоји праг деловањ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у  димери у молекулу ДНК (најчешће Т=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 зрачење које у току интеракције са материјом кроз коју пролази може да врш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изаци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тома и молек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ајам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електромагнетне талас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Х-зраци и гама-зрац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корпускуларно зра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електрони, протони, позитрони, алфа-зраци и неутрон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варује кумулативни ефек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постоји пра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ј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 се објашњава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еоријом слободних радикала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и на ДНК могу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ин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6012000" y="3645000"/>
          <a:ext cx="256860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645000"/>
                    <a:ext cx="256860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понт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35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знати фактори који доводе до мутац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шке приликом репликациј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понтана стопа мутације по гену изн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а стопа мутације по нуклеотиду изно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68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 молекулу ДНК изази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једн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в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slika - zracenje i DNK"/>
          <p:cNvPicPr/>
          <p:nvPr/>
        </p:nvPicPr>
        <p:blipFill>
          <a:blip r:embed="rId1"/>
          <a:stretch/>
        </p:blipFill>
        <p:spPr>
          <a:xfrm>
            <a:off x="5437080" y="1773360"/>
            <a:ext cx="3706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врсте 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најосетљивији су сисари, а међу њима чов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летална доза за човека је  4-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инсекте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бактерије 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Протозое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физиолошког 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рганиз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з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умеричк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руктурн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генске мутациј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Фактори који појачавају генотоксични ефекат јонизујућег зрачења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45a9e"/>
                </a:solidFill>
                <a:latin typeface="Constantia"/>
              </a:rPr>
              <a:t>              </a:t>
            </a:r>
            <a:r>
              <a:rPr b="1" lang="en-US" sz="3600" spc="-1" strike="noStrike">
                <a:solidFill>
                  <a:srgbClr val="645a9e"/>
                </a:solidFill>
                <a:latin typeface="Constantia"/>
              </a:rPr>
              <a:t>	</a:t>
            </a:r>
            <a:r>
              <a:rPr b="1" lang="sr-CS" sz="3600" spc="-1" strike="noStrike">
                <a:solidFill>
                  <a:srgbClr val="ff0066"/>
                </a:solidFill>
                <a:latin typeface="Arial"/>
              </a:rPr>
              <a:t>кисеоник -  </a:t>
            </a:r>
            <a:r>
              <a:rPr b="1" lang="sr-Latn-CS" sz="3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r-Latn-CS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r-Latn-CS" sz="3600" spc="-1" strike="noStrike" baseline="30000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исеонички ефекат има улогу у формирању реактивних пероксида - слободних радик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onstantia"/>
              </a:rPr>
              <a:t>Биолошки мутагени - </a:t>
            </a:r>
            <a:r>
              <a:rPr b="1" lang="sr-CS" sz="4800" spc="-1" strike="noStrike">
                <a:solidFill>
                  <a:srgbClr val="ff0066"/>
                </a:solidFill>
                <a:latin typeface="Constantia"/>
              </a:rPr>
              <a:t>вирус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Р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осебна група РНК вируса - РНК-ДНК вирус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субцелуларни организ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пособност док су слободни у ваздуху да се размножава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опствени метабо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показују јасан афинитет према одређеним генима или деловима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Вирусна нуклеинска киселина се у ћелији домаћину умножава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зависно (лизоген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или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независно (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лога вируса у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637000"/>
            <a:ext cx="763272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атогенез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онкогенези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 вирусни онко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роменама у генетичком материјалу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ске мутације, хромозомске аберације типа прек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  <a:ea typeface="Arial"/>
              </a:rPr>
              <a:t>вежб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  ГЕНОТОКСИЧНИХ АГЕНА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Хумани кариоти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Стандардизација хуманог карио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агенси присутни у човековој средини имају способност индуковања промена у наследном материјалу герминативних или соматских ћелија човека. Овакви агенси се означавају као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ТОКСИЧН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ГЕНС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а токсиколог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задатак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текција генотоксичних агена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генетичкој токсикологији постоји систем одабирања и давања приоритета супстанцама које треба тестирати 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елекција пиоритета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дуков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Фактори који могу проузроковати мутације с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МУТАГЕНИ АГЕНС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фактор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па индуковане мута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 сваки 7. нуклеотид на 100 нуклеотида претрпи мутацију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учавање мутација – вештачко индуковање мутација помоћу различитих мутагених аген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лекција приорит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2276280"/>
            <a:ext cx="65167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произведене супстанц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старих супстанц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нових и старих супстан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има се мења нам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пшти квалитети тест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именљивост добијених резултата на чове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ет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нов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пособност детекције генотоксичног потенцијала што већег броја агенас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кватна статистичка анализа резулта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зина извођења те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дноставност извођења теста и цена коштањ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343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литератури је познато преко 100 експерименталних 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у Европи се од 1986. год. примењује 15 основних тестова груписаних на основу генетичког ефекта који детектуј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9640" y="2543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КОЈИМА СЕ ДЕТЕКТУ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Е МУТА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ОТКРИВАЊ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ЕФЕКАТА НА НИВОУ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5712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и тестови подељени су на три основне гру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тес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SCE"/>
          <p:cNvPicPr/>
          <p:nvPr/>
        </p:nvPicPr>
        <p:blipFill>
          <a:blip r:embed="rId1"/>
          <a:stretch/>
        </p:blipFill>
        <p:spPr>
          <a:xfrm>
            <a:off x="54000" y="3290760"/>
            <a:ext cx="9090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тест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прате оштећењ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иво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а 5-бромдеоксиуридин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r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 се раст ћелија у култури и разликују с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тоз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4648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Slika 2"/>
          <p:cNvPicPr/>
          <p:nvPr/>
        </p:nvPicPr>
        <p:blipFill>
          <a:blip r:embed="rId1"/>
          <a:stretch/>
        </p:blipFill>
        <p:spPr>
          <a:xfrm>
            <a:off x="3276720" y="333360"/>
            <a:ext cx="4365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Slika 1"/>
          <p:cNvPicPr/>
          <p:nvPr/>
        </p:nvPicPr>
        <p:blipFill>
          <a:blip r:embed="rId1"/>
          <a:stretch/>
        </p:blipFill>
        <p:spPr>
          <a:xfrm>
            <a:off x="2627280" y="33336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40384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Slika 3"/>
          <p:cNvPicPr/>
          <p:nvPr/>
        </p:nvPicPr>
        <p:blipFill>
          <a:blip r:embed="rId1"/>
          <a:stretch/>
        </p:blipFill>
        <p:spPr>
          <a:xfrm>
            <a:off x="3348000" y="105264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SC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-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на сестринских хроматида настаје као последица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митози (соматск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реципрочна размена сегмен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налазе на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логим локусима две сестринске хромати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фазног хромозома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.   </a:t>
            </a:r>
            <a:r>
              <a:rPr b="0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оствари своје ефекте на свим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ивоима организације живе матер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тки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организ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лује на више различитих нач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канцер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алигну трансформациј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мута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утациј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ерат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промену у структури органа током ембрионалног разви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оксич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бија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биолошки неутрал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не узрокуј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2071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UMAN SISTER CHROMATID EXCHANGES </a:t>
            </a: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6292800"/>
            <a:ext cx="914400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lymphocyte cells treated with bromodeoxyuridine (BrdU) and stained with propidium iodide.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by Portia Cortes, California State University-Stanislau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sce.gif (104999 bytes)"/>
          <p:cNvPicPr/>
          <p:nvPr/>
        </p:nvPicPr>
        <p:blipFill>
          <a:blip r:embed="rId1"/>
          <a:stretch/>
        </p:blipFill>
        <p:spPr>
          <a:xfrm>
            <a:off x="2195640" y="260280"/>
            <a:ext cx="61513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oto_SCE"/>
          <p:cNvPicPr/>
          <p:nvPr/>
        </p:nvPicPr>
        <p:blipFill>
          <a:blip r:embed="rId1"/>
          <a:stretch/>
        </p:blipFill>
        <p:spPr>
          <a:xfrm>
            <a:off x="1944720" y="457200"/>
            <a:ext cx="50324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 ТЕС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3" descr="MN sema najnovij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-360" y="857160"/>
            <a:ext cx="8381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нуклеус тест се користи за детекциј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детекциј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уг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тогених агена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ост теста - брзина и једноставност извођењ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нива се н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у хроматинских телашац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ћел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 изгледају ка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 једра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и (МН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5668920" y="3986280"/>
            <a:ext cx="3276720" cy="2809800"/>
          </a:xfrm>
          <a:prstGeom prst="rect">
            <a:avLst/>
          </a:prstGeom>
          <a:ln w="0">
            <a:noFill/>
          </a:ln>
        </p:spPr>
      </p:pic>
      <p:sp>
        <p:nvSpPr>
          <p:cNvPr id="273" name="Right Arrow 5"/>
          <p:cNvSpPr/>
          <p:nvPr/>
        </p:nvSpPr>
        <p:spPr>
          <a:xfrm>
            <a:off x="4419720" y="4572000"/>
            <a:ext cx="83808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88390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  <a:ea typeface="Arial"/>
              </a:rPr>
              <a:t>еханизам настанка микронуклеус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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функција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об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971640" y="1197000"/>
            <a:ext cx="3240000" cy="25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4429080" y="1285920"/>
            <a:ext cx="4011480" cy="235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214880" y="4076640"/>
            <a:ext cx="4929120" cy="25146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79280" y="378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 тест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ктују с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прекиди на хромозом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оштећење хромозома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центромерном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 ћелија за анализу микронуклеус тестом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2143080"/>
            <a:ext cx="89917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исарски материјал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на срж миша - полихроматски еритр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0.31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5" descr="Micronuclei in mouse polychromatic erythrocytes "/>
          <p:cNvPicPr/>
          <p:nvPr/>
        </p:nvPicPr>
        <p:blipFill>
          <a:blip r:embed="rId1"/>
          <a:stretch/>
        </p:blipFill>
        <p:spPr>
          <a:xfrm>
            <a:off x="5219640" y="3573360"/>
            <a:ext cx="3621240" cy="2971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52280" y="5715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 Micronuclei in mouse polychromatic erythrocytes (arrow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9280" y="1071720"/>
            <a:ext cx="8964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Хумани материјал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крв човека 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кинезис блок микронуклеус тест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BM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тура лимфоцита периферне крви 7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/32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 почетка култивације културама се дода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халазин 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супастанца која блокира цитокинезу, па добијамо ћелије бинуклаерног изглед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-12 МН/1000 БН ћел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D:\DOKTORAT RADNA VERZIJA\Slike iz UVODA  za radnu doktorsku disertaciju\BN celije bez MN copy.jpg"/>
          <p:cNvPicPr/>
          <p:nvPr/>
        </p:nvPicPr>
        <p:blipFill>
          <a:blip r:embed="rId1"/>
          <a:stretch/>
        </p:blipFill>
        <p:spPr>
          <a:xfrm>
            <a:off x="0" y="152280"/>
            <a:ext cx="5340240" cy="3300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без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МН 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D:\DOKTORAT RADNA VERZIJA\Slike iz UVODA  za radnu doktorsku disertaciju\Slika BN sa MN.jpg"/>
          <p:cNvPicPr/>
          <p:nvPr/>
        </p:nvPicPr>
        <p:blipFill>
          <a:blip r:embed="rId2"/>
          <a:stretch/>
        </p:blipFill>
        <p:spPr>
          <a:xfrm>
            <a:off x="3733920" y="3581280"/>
            <a:ext cx="5410080" cy="3116520"/>
          </a:xfrm>
          <a:prstGeom prst="rect">
            <a:avLst/>
          </a:prstGeom>
          <a:ln w="0">
            <a:noFill/>
          </a:ln>
        </p:spPr>
      </p:pic>
      <p:sp>
        <p:nvSpPr>
          <p:cNvPr id="287" name="Curved Left Arrow 5"/>
          <p:cNvSpPr/>
          <p:nvPr/>
        </p:nvSpPr>
        <p:spPr>
          <a:xfrm>
            <a:off x="7086600" y="1371600"/>
            <a:ext cx="914400" cy="1066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0720 h 1066680"/>
              <a:gd name="textAreaBottom" fmla="*/ 771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3163700"/>
                <a:lnTo>
                  <a:pt x="5400" y="21367"/>
                </a:lnTo>
                <a:lnTo>
                  <a:pt x="0" y="16972"/>
                </a:lnTo>
                <a:lnTo>
                  <a:pt x="5400" y="12110"/>
                </a:lnTo>
                <a:lnTo>
                  <a:pt x="5400" y="14424"/>
                </a:lnTo>
                <a:arcTo wR="21600" hR="7329" stAng="3163700" swAng="-2777103"/>
                <a:lnTo>
                  <a:pt x="20494" y="9643"/>
                </a:lnTo>
                <a:arcTo wR="21600" hR="7329" stAng="-386597" swAng="-5013403"/>
                <a:close/>
              </a:path>
              <a:path fill="darkenLess"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-386597"/>
                <a:lnTo>
                  <a:pt x="20494" y="9643"/>
                </a:lnTo>
                <a:arcTo wR="21600" hR="7329" stAng="-386597" swAng="-5013403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Right Arrow 6"/>
          <p:cNvSpPr/>
          <p:nvPr/>
        </p:nvSpPr>
        <p:spPr>
          <a:xfrm>
            <a:off x="1143000" y="4724280"/>
            <a:ext cx="1676520" cy="12956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202320 h 1295640"/>
              <a:gd name="textAreaBottom" fmla="*/ 931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67116"/>
                <a:lnTo>
                  <a:pt x="17427" y="21473"/>
                </a:lnTo>
                <a:lnTo>
                  <a:pt x="21600" y="16200"/>
                </a:lnTo>
                <a:lnTo>
                  <a:pt x="17427" y="10673"/>
                </a:lnTo>
                <a:lnTo>
                  <a:pt x="17427" y="13373"/>
                </a:lnTo>
                <a:arcTo wR="21600" hR="6750" stAng="7332884" swAng="300113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5044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Arial"/>
                <a:ea typeface="Gulim"/>
              </a:rPr>
              <a:t>3.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04920" y="2819520"/>
            <a:ext cx="8838720" cy="3361680"/>
            <a:chOff x="304920" y="2819520"/>
            <a:chExt cx="8838720" cy="3361680"/>
          </a:xfrm>
        </p:grpSpPr>
        <p:graphicFrame>
          <p:nvGraphicFramePr>
            <p:cNvPr id="291" name="Object 4"/>
            <p:cNvGraphicFramePr/>
            <p:nvPr/>
          </p:nvGraphicFramePr>
          <p:xfrm>
            <a:off x="304920" y="2820960"/>
            <a:ext cx="2866320" cy="336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820960"/>
                      <a:ext cx="2866320" cy="33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5"/>
            <p:cNvGraphicFramePr/>
            <p:nvPr/>
          </p:nvGraphicFramePr>
          <p:xfrm>
            <a:off x="3397320" y="2819520"/>
            <a:ext cx="2894760" cy="333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97320" y="2819520"/>
                      <a:ext cx="2894760" cy="33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6"/>
            <p:cNvGraphicFramePr/>
            <p:nvPr/>
          </p:nvGraphicFramePr>
          <p:xfrm>
            <a:off x="6468840" y="2832840"/>
            <a:ext cx="2674800" cy="332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68840" y="2832840"/>
                      <a:ext cx="2674800" cy="332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1920" y="171468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м се детектују хромозомске аберац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врсте тестова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tro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у култури ћелиј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v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ајчешћ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ћел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се користи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за тестирање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ЛИМФОЦИТИ ПЕРИФЕРНЕ КРВ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због једноставности добијања узор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Ћелијске линије, нпр.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CHO линиј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ћелије из оваријума кинеског хрчка) има 22 хромозома и ћелијски циклус траје 1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42920" y="35712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зрокују мут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6920" y="1988640"/>
            <a:ext cx="8066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Хемиј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Физички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генси – зрач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температура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Биолош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 – виру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71640" y="1491840"/>
            <a:ext cx="75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РЕЗУЛТАТ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 добијеним препаратима анализирају 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АБ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у то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ни прекид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а ређе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а прегледати око 30 хромозомских гарни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ка обрада резул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емијски агенс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12640"/>
            <a:ext cx="83311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1949. познато је да хемијске супстанце могу изазвати промене у генетичком материја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исно од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фазе ћелијског цикл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рок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ати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2 и S фази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1 фази) 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оштећења пропорционална је употребљеној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Arial"/>
              </a:rPr>
              <a:t>до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оза је количина супстанце која реагује са молекулом 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и су у индукцији пром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д одређеног по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одређеној фази ћ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ј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доведу до мутација у било ком делу генома, тј. у било ком ге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</a:t>
            </a:r>
            <a:r>
              <a:rPr b="0" lang="sr-Latn-C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560" y="1341360"/>
            <a:ext cx="8893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ХРОМОЗОМСКЕ АБЕР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умерич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липлоидиј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неуплоид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 Структу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берације типа прек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атидних и хромозом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хроматске ле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нвер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рстенасти хромозо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дицентрични хромозо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 ГЕНСКЕ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а хемијских агенаса са молекулом ДНК може бит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н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захтевају метаболичку активаци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1-08-26T09:17:26Z</dcterms:modified>
  <cp:revision>235</cp:revision>
  <dc:subject/>
  <dc:title>MUTACIJE GENA</dc:title>
</cp:coreProperties>
</file>